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F40E-73C6-482F-AF87-66502C36D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solver could go on forever finding solu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7EE-75A1-4725-8E38-FBA1110E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0DA-6E0E-47DB-9D11-77DDA65E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63B-538F-4FDB-895D-FAFFC765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A12-5E83-48D1-A8C9-DA8D496C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C68-694A-4416-B0F6-779C418E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957-C774-4D73-B890-2B865D9C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4B0-306A-4BD5-AE07-8EEDED2D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C34-D685-4070-87E9-683A5048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339-FF8C-40BB-9F1B-4DF78F1D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30F5-EDBD-4ECE-A35C-071B7451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6BB-3A83-4BC0-B527-B5E8A21A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81C-B023-45E3-9FF3-5B159562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en.wikipedia.org/wiki/Image:Sudoku-by-L2G-20050714.svg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09C0-C6FA-4B72-9523-2813925BA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A sudoku puzzle..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h.physik.uni-frankfurt.de/~jr/gif/phys/euler.jpg&amp;imgrefurl=http://th.physik.uni-frankfurt.de/~jr/physlist.html&amp;h=600&amp;w=549&amp;sz=99&amp;hl=en&amp;start=8&amp;tbnid=5hU1y81TnKWBKM:&amp;tbnh=135&amp;tbnw=124&amp;prev=/images%3Fq%3Deuler%26svnum%3D10%26hl%3Den%26rls%3DDGUS,DGUS:2006-25,DGUS: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imes New Roman"/>
              </a:rPr>
              <a:t>Sudoku: Creating a Random Puzzle Generator</a:t>
            </a:r>
            <a:endParaRPr b="0" lang="en-US" sz="3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athi Krishnamurt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rla Mo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im Schee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onstrain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single-step efforts focused on constraining the sum of each row, column, and 3x3 box to equal 45 (1+2+3…+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itial Effor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2705040"/>
            <a:ext cx="3689640" cy="3800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454720" y="2705040"/>
            <a:ext cx="3689280" cy="3800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33600" y="186696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15080" y="186696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rcRect l="32039" t="34848" r="31759" b="40851"/>
          <a:stretch/>
        </p:blipFill>
        <p:spPr>
          <a:xfrm>
            <a:off x="5797440" y="144360"/>
            <a:ext cx="31910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Refining Our Approach – “CountIf” Statements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ly, the first approach violated the premise of each row, column, and 3x3 box having non-repeating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incorporate this constraint into Sol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get around this by introducing “CountIf”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olution, Take Two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31924" t="34867" r="31948" b="40655"/>
          <a:stretch/>
        </p:blipFill>
        <p:spPr>
          <a:xfrm>
            <a:off x="5086440" y="2733840"/>
            <a:ext cx="337320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0" t="11392" r="47678" b="7018"/>
          <a:stretch/>
        </p:blipFill>
        <p:spPr>
          <a:xfrm>
            <a:off x="649440" y="1736640"/>
            <a:ext cx="41050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Puzzle Is Too Big For Solve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tried several other single-step solutions, introducing new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r can only handle 200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7737" t="65466" r="19388" b="15755"/>
          <a:stretch/>
        </p:blipFill>
        <p:spPr>
          <a:xfrm>
            <a:off x="1865160" y="4137120"/>
            <a:ext cx="40086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A-Ha Moment – Solve It Iteratively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multiple steps, using the learnings from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each 1x9 column at a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dds new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linked several constraints together and created “penalties”, thus enabling us to have more constraints while making the problem small enough for Solver to han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tep One of the Model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57240"/>
            <a:ext cx="241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untIf constraints on having exactly one of each number in every row, column, and 3x3 box are all brought together into a single constra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11385" r="19834" b="5187"/>
          <a:stretch/>
        </p:blipFill>
        <p:spPr>
          <a:xfrm>
            <a:off x="3133800" y="1811160"/>
            <a:ext cx="5830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teps 2-7: Rinse, and Repe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11606" r="55136" b="5308"/>
          <a:stretch/>
        </p:blipFill>
        <p:spPr>
          <a:xfrm>
            <a:off x="5559480" y="1571760"/>
            <a:ext cx="3524040" cy="521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2572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we fill more columns, it becomes harder and harder for Solver to find a feasible 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need to increase the “Max Time” in Evolutionary Solver, as well as the “Max Subproblems” and “Max Feasible Solution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47501" t="39821" r="24112" b="28764"/>
          <a:stretch/>
        </p:blipFill>
        <p:spPr>
          <a:xfrm>
            <a:off x="3460680" y="5075280"/>
            <a:ext cx="1860480" cy="1647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47858" t="46665" r="24115" b="35361"/>
          <a:stretch/>
        </p:blipFill>
        <p:spPr>
          <a:xfrm>
            <a:off x="1069920" y="5686560"/>
            <a:ext cx="202104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tep 8: Completing the Solu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we get down to the last two columns, we need to change our 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aints become more lim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ce 7 columns have been rendered, there are only two possible solutions to the puzzle given everything that has been fill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Solver does find a possible solution for column 8, then there may be no feasible solution for column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Finding the Missing Number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11602" r="7050" b="5268"/>
          <a:stretch/>
        </p:blipFill>
        <p:spPr>
          <a:xfrm>
            <a:off x="2070000" y="1747800"/>
            <a:ext cx="7074000" cy="5062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17733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-5724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anged “Obj. Func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240" indent="-5724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d “CountIf” to code for missing numb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240" indent="-5724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d “Concatenate”, “Match” and “Find” to determine which numbers aren’t present in the row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240" indent="-5724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inary decision variables and IF statements place missing numbers to create the final sol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ject Goal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olver to create a filled-in 9x9 Sudoku g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onditional Formatting to hide values, thereby creating the actual puzz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reate the Puzzl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actual puzz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in mirror-image patterns within the 9x9 g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ls identified using dummy variables: “1” for a blank cell, “0” for a solved c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4958" t="24005" r="62306" b="45578"/>
          <a:stretch/>
        </p:blipFill>
        <p:spPr>
          <a:xfrm>
            <a:off x="3355920" y="4505400"/>
            <a:ext cx="221796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reate the Puzzl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domly choose a pat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Excel “Rand()” function to generate a random number between 0 and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pattern has a ~33% chance of being sel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grid with missing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“IF” statement to correlate dummy variables with blank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t and solv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 Sudoku Puzzle for the Clas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84440" y="2036880"/>
            <a:ext cx="397188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op Quiz!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otal number of possible Sudoku puzzles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78x10</a:t>
            </a:r>
            <a:r>
              <a:rPr b="0" lang="en-US" sz="2800" spc="-1" strike="noStrike" baseline="40000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67x10</a:t>
            </a:r>
            <a:r>
              <a:rPr b="0" lang="en-US" sz="2800" spc="-1" strike="noStrike" baseline="40000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!x8!x7!x6!x5!x4!x3!x2!x1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02x10</a:t>
            </a:r>
            <a:r>
              <a:rPr b="0" lang="en-US" sz="2800" spc="-1" strike="noStrike" baseline="40000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52640" y="3244680"/>
            <a:ext cx="2403360" cy="5382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History of the Puzzl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onhard Eul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entury Swiss mathematic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d “Latin Squares”: a grid where no number was repe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l Magaz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70’s pub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shed a version of Latin Squares in a 9x9 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it “The Number Pla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61320" y="152280"/>
            <a:ext cx="2030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velopment of Sudoku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yne Gou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ired Hong Kong judge, from New Zea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w a partly completed puzzle in a Japanese booksh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n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years developing a computer program that would randomly generate puzz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d it Sudoku (from Japane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” = nu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ku” = single spot for a nu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doku first published on November 12, 2004 in the Times (Britain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304040" y="133200"/>
            <a:ext cx="1687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Puzzl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zzle is presented as a partially completed 9x9 g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yer must complete the grid such that each column, row and 3x3 box only uses the numbers 1-9 O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ssing numbers are always presented in mirror-image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cision Models: Sudoku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didn’t take us 6 yea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objectiv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patterns of hiding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random number generator and conditional formatting to create final puzz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avea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thought this would be relatively easy.  It wasn’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started by attempting to create a solution in a single step, using 81 decision variables (9 rows x 9 colum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quickly learned a great deal about the limitations of Sol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bjective Func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n’t really an objective function here – it is all about the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21:20:08Z</dcterms:created>
  <dc:creator> </dc:creator>
  <dc:description/>
  <dc:language>en-US</dc:language>
  <cp:lastModifiedBy>arathikrish</cp:lastModifiedBy>
  <dcterms:modified xsi:type="dcterms:W3CDTF">2007-12-02T19:31:55Z</dcterms:modified>
  <cp:revision>19</cp:revision>
  <dc:subject/>
  <dc:title>History of Sudoku</dc:title>
</cp:coreProperties>
</file>